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8274-2A99-4FA0-8F36-17D78FC6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644A-589B-41B2-BE04-5BD6C95D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7A9C-B11D-40AE-B767-F250AEDC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5B5-D41A-4D95-808A-AF832F59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35DA-DD44-4DBB-A5CC-3BA149E6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1598-B0E6-47D9-9796-091CDFAB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1090-8176-49AB-980D-EA1766A9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466E-D6AB-425D-B09A-154B8AF6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517B-24A3-4B7D-BA8C-78BC35E7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4FC3-0334-4ABA-B401-EF4F380C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D7D0-AD7E-4F6C-B52E-E985276C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CE5A-9A5C-4D8E-AA3B-E74F0414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60B3-8F1B-4267-BE3A-6EC334AC0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you let your food sit in sunl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testing to see if sunlight effects how fruit rotte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at sunlight will speed up decomposition because light has heat and heat causes fruit to r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ther all materi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ce one of each fruit in a lightened room and let s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ce one of each fruit in a dark room and let s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amine the fruit over a time period of 1-2 week and check it 2 times a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th Grade the fruit on how much it has rotten by seeing how soft it is on a scale of 1 to 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Apples, Bananas, P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k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 and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Open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= Light and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= How fast the fruit rott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= Fr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=1,1,2,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ana=1,2,3,5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        1,2,3,4,5,6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k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= 1,1,2,2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ana= 1,1,2,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STERLING  USD376</cp:lastModifiedBy>
  <cp:lastPrinted>2009-04-22T19:24:48Z</cp:lastPrinted>
  <dcterms:modified xsi:type="dcterms:W3CDTF">2010-05-10T16:25:5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